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7BA5-58F6-41C3-BA93-60F8EE1093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2F4A-5F97-4520-BCA7-30068B9857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BABD-9AD7-448E-81B4-5B6644C414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4A3E-1EBF-489E-8063-E258A5FDC8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7B2F-26BF-4D81-BE5D-0A0255EC1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1BCA-EB90-4673-8250-7C60DFCE4C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9CAE-2B1A-4A51-BD50-2BBFFBFF8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D434-3038-4051-B046-BBE1B7835C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FC65-E0CD-4477-9922-0738736B7B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6686-DB25-4399-8278-011512F474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B6DD-78CB-49C4-AFF5-5B92D373A7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570F-0C4E-44C3-AE2A-2403AFD6E3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46E6-E649-4B9A-B566-85C7CED138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E424-0081-42C9-A2A7-7E9FBCC2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935-1662-4ED9-B9AC-554B533D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61FF-5E84-49B9-90BE-C26C6885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C57-2DE4-48D1-A684-74DF84DC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156-BF28-4B4A-B66F-DECF6D03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76C-1ACC-4982-829E-0BCE304F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DF1-36DA-4B3D-9DAB-B87DDF09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8F9-F15C-4EE3-8AFD-480BAFE6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5C5-7C9B-4843-A90E-543E31EA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FFD-E499-41CE-8EF3-6793FD63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F7D9-0130-4424-907E-3CAA038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352-429B-41AA-BC45-355EE88F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647E-C155-4F09-8646-A523D0FE25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826920" y="1197000"/>
            <a:ext cx="749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ПЕРЕХОД НА ОДНОКАНАЛЬНОЕ ФИНАНСИРОВАНИЕ В СИСТЕМЕ ЗДРАВООХРАНЕНИЯ ОКРУ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УЧАСТИЕ УЧРЕЖДЕНИЙ МЕДИЦИНСКОГО ОБРАЗ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ая соединительная линия 1"/>
          <p:cNvSpPr/>
          <p:nvPr/>
        </p:nvSpPr>
        <p:spPr>
          <a:xfrm>
            <a:off x="108000" y="981000"/>
            <a:ext cx="892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468360" y="3357720"/>
            <a:ext cx="788040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  <a:ea typeface="Calibri"/>
              </a:rPr>
              <a:t>ЧТО НЕОБХОДИМО ДЕЛАТЬ ЕЩЕ?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  <a:ea typeface="Calibri"/>
              </a:rPr>
              <a:t>ЛЕЧЕБНО-ДИАГНОСТИЧЕСКИЙ ПРОЦЕС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БОРЬБА С БЕЗГРАМОТНОСТЬЮ В ОБЛАСТИ ФАРМАКОТЕРАПИИ;  ПРИМЕНЕНИЕ ТОЛЬКО ТЕХ ПРЕПАРАТОВ, КОТОРЫЕ ИМЕЮТ ДОКАЗАТЕЛЬНУЮ БАЗ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ОПТИМИЗАЦИЯ СИСТЕМЫ ЛЕКАРСТВЕННОГО ОБЕСПЕЧ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ИСПОЛЬЗОВАНИЕ МЕТОДОВ ЛЕЧЕНИЯ, ЭФФЕКТИВНОСТЬ КОТОРЫХ ДОКАЗА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ВНЕДРЕНИЕ НОВЫХ ПРОТОКОЛОВ И СТАНДАРТОВ ЛЕЧЕНИЯ  И ДИАГНОСТИКИ, ВКЛЮЧАЯ ОПТИМИЗАЦИЮ ЛАБОРАТОРНОЙ, ФУНКЦИОНАЛЬНОЙ И ДР. ВИДОВ ДИАГНОСТИ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libri"/>
                <a:ea typeface="Calibri"/>
              </a:rPr>
              <a:t>NB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  <a:ea typeface="Calibri"/>
              </a:rPr>
              <a:t>!</a:t>
            </a:r>
            <a:r>
              <a:rPr b="1" lang="en-US" sz="1600" spc="-1" strike="noStrike">
                <a:solidFill>
                  <a:srgbClr val="ffff00"/>
                </a:solidFill>
                <a:latin typeface="Calibri"/>
                <a:ea typeface="Calibri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  <a:ea typeface="Calibri"/>
              </a:rPr>
              <a:t>Предыдущий слайд. МЕДИЦИНСКОЕ ОБРАЗОВАНИЕ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220680" y="1197000"/>
            <a:ext cx="8672400" cy="59544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Способы сокращения издерж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144360" y="115920"/>
            <a:ext cx="84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РЕХОД НА ОДНОКАНАЛЬНОЕ ФИНАНСИРОВАНИ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МЕДИЦИНСКОЕ ОБРАЗ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ая соединительная линия 1"/>
          <p:cNvSpPr/>
          <p:nvPr/>
        </p:nvSpPr>
        <p:spPr>
          <a:xfrm>
            <a:off x="108000" y="981000"/>
            <a:ext cx="892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468360" y="3240000"/>
            <a:ext cx="7880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  <a:ea typeface="Calibri"/>
              </a:rPr>
              <a:t>ВСЕ НАЧИНАЕТСЯ В ШКОЛЕ, ВСЕ НАЧИНАЕТСЯ С УЧИТЕЛЯ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ОБЕСПЕЧЕНИЕ УСЛОВИЙ ДЛЯ ПРИВЛЕЧЕНИЯ ВЫСОКОКЛАСНЫХ ПРЕПОДАВАТЕЛЕЙ НА ПОСТОЯННОЙ ОСНО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УЛУЧШЕНИЕ УСЛОВИЙ ДЛЯ МОЛОДЫХ СПЕЦИАЛИС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РАЗВИТИЕ АКАДЕМИЧЕСКОЙ МОБИЛЬНОСТИ (ДАЖЕ В ПРЕДЕЛАХ ОКРУГА!) ДЛЯ СТУДЕНТОВ И ПРЕПОДАВАТЕЛ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РАСШИРЕНИЕ КЛИНИЧЕСКИХ БА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ВКЛЮЧЕНИЕ В ТАРИФЫ ОМС РАСХОДОВ, СВЯЗАННЫХ С РАЗМЕЩЕНИЕМ КАФЕД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220680" y="1197000"/>
            <a:ext cx="8672400" cy="59544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Способы сокращения издерж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144360" y="115920"/>
            <a:ext cx="84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РЕХОД НА ОДНОКАНАЛЬНОЕ ФИНАНСИРОВАНИ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МЕДИЦИНСКОЕ ОБРАЗ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826920" y="1494000"/>
            <a:ext cx="74901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СПАСИБО ЗА ВНИМАНИЕ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ЕТРОВСКИЙ ФЁДОР ИГОРЕВИЧ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ХАНТЫ-МАНСИЙСКАЯ ГОСУДАРСТВЕННАЯ МЕДИЦИНСКАЯ АКАДЕМ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ВОПРОС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46080" y="2308320"/>
            <a:ext cx="89596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72000" bIns="72000" anchor="ctr">
            <a:noAutofit/>
          </a:bodyPr>
          <a:p>
            <a:pPr marL="447840" indent="-266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ТРУКТУРНЫЕ ПРЕОБРАЗОВАНИЯ В З-Х УРОВНЕВОЙ СИСТЕМЕ ОКАЗАНИЯ М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7840" indent="-266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ЕРЕХОД НА ОДНОКАНАЛЬНОЕ ФИНАНСИРОВАНИЕ ОКАЗАНИЯ МП ЗА СЧЕТ СРЕДСТВ ОМ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7840" indent="-266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ЗМЕНЕНИЕ СПОСОБОВ ОПЛАТЫ МП В РАМКАХ ОМС (КСГ И ЗАКОНЧЕННЫЕ СЛУЧА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7840" indent="-266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БЕСПЕЧЕНИЕ СИСТЕМЫ ЗДРАВООХРАНЕНИЯ ВЫСОКОКВАЛИФИЦИРОВАННЫМИ И МОТИВИРОВАННЫМИ КАДР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7840" indent="-266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ВНЕДРЕНИЕ НАЦИОНАЛЬНЫХ КЛИНИЧЕСКИХ ПРОТОКОЛОВ ЛЕ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7840" indent="-266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ОВЕРШЕНСТВОВАНИЕ СИСТЕМЫ ЛЕКАРСТВЕННОГО ОБЕСПЕ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7840" indent="-266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МПОРТОЗАМЕЩ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47840" indent="-2667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bbe0e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СОВЕРШЕНСТВОВАНИЕ МЕХАНИЗМОВ ГОСУДАРСТВЕННЫХ ЗАКУП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ая соединительная линия 6"/>
          <p:cNvSpPr/>
          <p:nvPr/>
        </p:nvSpPr>
        <p:spPr>
          <a:xfrm>
            <a:off x="108000" y="981000"/>
            <a:ext cx="892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220680" y="1197000"/>
            <a:ext cx="8672400" cy="59544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Оптимизация расходов и повышение каче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9"/>
          <p:cNvSpPr/>
          <p:nvPr/>
        </p:nvSpPr>
        <p:spPr>
          <a:xfrm>
            <a:off x="144360" y="115920"/>
            <a:ext cx="84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РЕХОД НА ОДНОКАНАЛЬНОЕ ФИНАНСИРОВАНИ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МЕДИЦИНСКОЕ ОБРАЗ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ая соединительная линия 1"/>
          <p:cNvSpPr/>
          <p:nvPr/>
        </p:nvSpPr>
        <p:spPr>
          <a:xfrm>
            <a:off x="108000" y="981000"/>
            <a:ext cx="892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ая соединительная линия 2"/>
          <p:cNvSpPr/>
          <p:nvPr/>
        </p:nvSpPr>
        <p:spPr>
          <a:xfrm>
            <a:off x="620640" y="5835600"/>
            <a:ext cx="55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ая соединительная линия 4"/>
          <p:cNvSpPr/>
          <p:nvPr/>
        </p:nvSpPr>
        <p:spPr>
          <a:xfrm>
            <a:off x="620640" y="2830680"/>
            <a:ext cx="55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2457360"/>
            <a:ext cx="480960" cy="3718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2689200" y="1952640"/>
            <a:ext cx="3887640" cy="2093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РАЗВИТИЕ АМБУЛАТОРНОГО ЗВЕНА, ПРИОРИТЕТ НА ПРЕДУПРЕЖДЕНИЕ ЗАБОЛЕВАН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Увеличение пациентопотока на 10,7% к 2015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Увеличение кадровых ресурс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Создание отделений (кабинетов) реабилит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РАЗРАБОТКА НОВОЙ ПРОГРАММЫ ДИСПАНСЕРИЗАЦ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Ранняя диагностика заболева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Выявление и коррекция факторов риска развития заболева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2700360" y="5059440"/>
            <a:ext cx="3887640" cy="145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ОПТИМИЗАЦИЯ ИНФРАСТРУКТУРЫ СТАЦИОНАРНОГО ФОНД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Перепрофилирование неэффективно используемых отделений/стацион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Развитие системы дневных стацион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СОКРАЩЕНИЕ ДЛИТЕЛЬНОСТИ ГОСПИТАЛИЗ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6708600" y="5969160"/>
            <a:ext cx="2305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Calibri"/>
              </a:rPr>
              <a:t>СОКРАЩЕНИЕ ФИНАНСИРОВАНИЯ СТАЦИОНАРНОЙ ПОМОЩ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Пятиугольник 9"/>
          <p:cNvSpPr/>
          <p:nvPr/>
        </p:nvSpPr>
        <p:spPr>
          <a:xfrm>
            <a:off x="981000" y="5487840"/>
            <a:ext cx="1687680" cy="693720"/>
          </a:xfrm>
          <a:custGeom>
            <a:avLst/>
            <a:gdLst>
              <a:gd name="textAreaLeft" fmla="*/ 0 w 1687680"/>
              <a:gd name="textAreaRight" fmla="*/ 1688040 w 16876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9" y="0"/>
                </a:lnTo>
                <a:lnTo>
                  <a:pt x="21600" y="10800"/>
                </a:lnTo>
                <a:lnTo>
                  <a:pt x="1886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СТАЦИОНАР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1"/>
          <p:cNvSpPr/>
          <p:nvPr/>
        </p:nvSpPr>
        <p:spPr>
          <a:xfrm>
            <a:off x="6708600" y="5111640"/>
            <a:ext cx="2305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alibri"/>
                <a:ea typeface="Calibri"/>
              </a:rPr>
              <a:t>СОКРАЩЕНИЕ  ЧИСЛЕННОСТИ СТАЦИОНАР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12"/>
          <p:cNvSpPr/>
          <p:nvPr/>
        </p:nvSpPr>
        <p:spPr>
          <a:xfrm>
            <a:off x="5076720" y="4257720"/>
            <a:ext cx="3668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Calibri"/>
                <a:ea typeface="Calibri"/>
              </a:rPr>
              <a:t>ПЕРЕРАСПРЕДЕЛЕНИЕ МЕДИЦИНСКИХ КАДРОВ – ПЕРЕПОДГОТОВ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13"/>
          <p:cNvSpPr/>
          <p:nvPr/>
        </p:nvSpPr>
        <p:spPr>
          <a:xfrm>
            <a:off x="6759720" y="2744640"/>
            <a:ext cx="23050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Calibri"/>
                <a:ea typeface="Calibri"/>
              </a:rPr>
              <a:t>УВЕЛИЧЕНИЕ ФИНАНСИРОВАНИЯ АМБУЛАТОРНОГО СЕГМЕН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ятиугольник 14"/>
          <p:cNvSpPr/>
          <p:nvPr/>
        </p:nvSpPr>
        <p:spPr>
          <a:xfrm>
            <a:off x="981000" y="2471760"/>
            <a:ext cx="1687680" cy="693720"/>
          </a:xfrm>
          <a:custGeom>
            <a:avLst/>
            <a:gdLst>
              <a:gd name="textAreaLeft" fmla="*/ 0 w 1687680"/>
              <a:gd name="textAreaRight" fmla="*/ 1688040 w 16876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25" y="0"/>
                </a:lnTo>
                <a:lnTo>
                  <a:pt x="21600" y="10800"/>
                </a:lnTo>
                <a:lnTo>
                  <a:pt x="1862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Calibri"/>
              </a:rPr>
              <a:t>АМБУЛАТОРНО-ПОЛИКЛИНИЧЕСК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18"/>
          <p:cNvSpPr/>
          <p:nvPr/>
        </p:nvSpPr>
        <p:spPr>
          <a:xfrm>
            <a:off x="220680" y="1197000"/>
            <a:ext cx="8672400" cy="59544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Уровень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Процессы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Результ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оугольник 19"/>
          <p:cNvSpPr/>
          <p:nvPr/>
        </p:nvSpPr>
        <p:spPr>
          <a:xfrm>
            <a:off x="144360" y="115920"/>
            <a:ext cx="84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РЕХОД НА ОДНОКАНАЛЬНОЕ ФИНАНСИРОВАНИ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МЕДИЦИНСКОЕ ОБРАЗ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ая соединительная линия 1"/>
          <p:cNvSpPr/>
          <p:nvPr/>
        </p:nvSpPr>
        <p:spPr>
          <a:xfrm>
            <a:off x="108000" y="981000"/>
            <a:ext cx="892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Диаграмма 2" descr=""/>
          <p:cNvPicPr/>
          <p:nvPr/>
        </p:nvPicPr>
        <p:blipFill>
          <a:blip r:embed="rId1"/>
          <a:stretch/>
        </p:blipFill>
        <p:spPr>
          <a:xfrm>
            <a:off x="200160" y="1938240"/>
            <a:ext cx="8821440" cy="46562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220680" y="1197000"/>
            <a:ext cx="8672400" cy="59544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Объемы финансирования здравоохранения в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144360" y="115920"/>
            <a:ext cx="84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РЕХОД НА ОДНОКАНАЛЬНОЕ ФИНАНСИРОВАНИ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МЕДИЦИНСКОЕ ОБРАЗ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ая соединительная линия 1"/>
          <p:cNvSpPr/>
          <p:nvPr/>
        </p:nvSpPr>
        <p:spPr>
          <a:xfrm>
            <a:off x="108000" y="981000"/>
            <a:ext cx="892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361800" y="2924280"/>
            <a:ext cx="72374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ЧАСТЬ ЕДИНОГО СОЦИАЛЬНОГО НАЛО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ЧАСТЬ ЕДИНОГО НАЛОГА НА ВМЕНЕННЫЙ ДОХОД ДЛЯ ОПРЕДЕЛЕННЫХ ВИДОВ 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СТРАХОВЫЕ ВЗНОСЫ НА ОБЯЗАТЕЛЬНОЕ МЕДИЦИНСКОЕ СТРАХОВАНИЕ НЕРАБОТАЮЩЕГО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220680" y="1177920"/>
            <a:ext cx="8672400" cy="59544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Основные источники наполнения бюджета ОМ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326880" y="4757760"/>
            <a:ext cx="870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ОСНОВНАЯ ЧАСТЬ ПЛАНИРУЕМЫХ ДОХОДОВ БЮДЖЕТА ФОНДА  БУДЕТ ОБЕСПЕЧЕНА ПОСТУПЛЕНИЯМИ СТРАХОВЫХ ВЗНОСОВ (В 2013 ГОДУ - 95,2%, В 2014 ГОДУ - 98,4%, В 2015 ГОДУ - 99,9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144360" y="115920"/>
            <a:ext cx="84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РЕХОД НА ОДНОКАНАЛЬНОЕ ФИНАНСИРОВАНИ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МЕДИЦИНСКОЕ ОБРАЗ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ая соединительная линия 1"/>
          <p:cNvSpPr/>
          <p:nvPr/>
        </p:nvSpPr>
        <p:spPr>
          <a:xfrm>
            <a:off x="108000" y="981000"/>
            <a:ext cx="892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220680" y="1197000"/>
            <a:ext cx="8672400" cy="59544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Для достижения поставленных целей ВАЖНО сохранить балан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Рисунок 3" descr="celent_02.jpg"/>
          <p:cNvPicPr/>
          <p:nvPr/>
        </p:nvPicPr>
        <p:blipFill>
          <a:blip r:embed="rId1"/>
          <a:srcRect l="12200" t="10626" r="12200" b="6877"/>
          <a:stretch/>
        </p:blipFill>
        <p:spPr>
          <a:xfrm>
            <a:off x="2843280" y="2997360"/>
            <a:ext cx="3273480" cy="36003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650880" y="1700280"/>
            <a:ext cx="788184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ак достичь поставленных целей сокращения расходов и роста качества при требуемом росте заработной платы и увеличении доли оплаты труда в бюджете ОМС до 85%?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250920" y="3745080"/>
            <a:ext cx="244944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Увеличение бюдж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6372360" y="3740040"/>
            <a:ext cx="24476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кращение издерж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144360" y="115920"/>
            <a:ext cx="84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РЕХОД НА ОДНОКАНАЛЬНОЕ ФИНАНСИРОВАНИ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МЕДИЦИНСКОЕ ОБРАЗ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ая соединительная линия 1"/>
          <p:cNvSpPr/>
          <p:nvPr/>
        </p:nvSpPr>
        <p:spPr>
          <a:xfrm>
            <a:off x="108000" y="981000"/>
            <a:ext cx="892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468360" y="3457440"/>
            <a:ext cx="78804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ЧТО СДЕЛА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ВЫШЕНИЕ СТРАХОВОГО ВЗНОСА ЗА РАБОТАЮЩЕЕ НАСЕЛЕНИЕ С 3,6% ДО 5,1%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ополнительные доходы фонда ОМС к 2015 году составят 115 млрд. руб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35892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ВНЕДРЕНИЕ СПОСОБОВ ОПЛАТЫ В РАМКАХ ОМС, ОРИЕНТИРОВАННЫХ НА РЕЗУЛЬТ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Сокращение расходов на госпитальную помощь в рамках ПГГ (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&gt; 10%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по оценкам МЗ); экономия до 60 млрд. руб. в год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  <a:ea typeface="Calibri"/>
              </a:rPr>
              <a:t>ЧТО ПЛАНИРУЕТСЯ СДЕЛ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СУБСИДИИ ИЗ ФЕДЕРАЛЬНОГО БЮДЖЕТА В ВИДЕ СРЕДСТВ, ВЫСВОБОДИВШИХСЯ ПОСЛЕ ПРЕКРАЩЕНИЯ ФЕДЕРАЛЬНЫХ ПРОГРАММ (НАПРИМЕР, ПРОГРАММЫ МОДЕРНИЗАЦИИ ЗДРАВООХРАНЕНИ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220680" y="1197000"/>
            <a:ext cx="8672400" cy="59544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Способы увеличения бюджета ОМ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144360" y="115920"/>
            <a:ext cx="84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РЕХОД НА ОДНОКАНАЛЬНОЕ ФИНАНСИРОВАНИ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МЕДИЦИНСКОЕ ОБРАЗ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1"/>
          <p:cNvSpPr/>
          <p:nvPr/>
        </p:nvSpPr>
        <p:spPr>
          <a:xfrm>
            <a:off x="108000" y="981000"/>
            <a:ext cx="892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оугольник 5"/>
          <p:cNvSpPr/>
          <p:nvPr/>
        </p:nvSpPr>
        <p:spPr>
          <a:xfrm>
            <a:off x="468360" y="3673440"/>
            <a:ext cx="78804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ЧТО СДЕЛА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ВЕДЕНА РЕОРГАНИЗАЦИЯ СЕТИ ЛПУ ОКРУГ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ВНЕДРЕНЫ СИСТЕМЫ ЭНЕРГОСБЕРЕ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ВЕДЕНО СОВЕРШЕНСТВАНИЕ ИНФРАСТРУКТУРЫ ОБЪЕКТОВ ЗДРАВООХРА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ВНЕДРЕНА СИСТЕМА СТИМУЛИРОВАНИЯ ПРОФЕССИОНАЛЬНОЙ ДЕЯТЕЛЬНОСТИ И РАСПРОСТРАНЕНИЯ ПЕРЕДОВЫХ ФОРМ И МЕТОДОВ Р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ВНЕДРЕНЫ СОВРЕМЕННЫЕ ТЕЛЕКОММУНИКАЦИОННЫЕ И ИНФОРМАЦИОННЫЕ СИСТЕМ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  <a:ea typeface="Calibri"/>
              </a:rPr>
              <a:t>ЧТО ПЛАНИРУЕТСЯ СДЕЛАТЬ САМОЕ БЛИЖАЙШЕЕ 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ПЕРЕХОД НА СИСТЕМУ ЭФФЕКТИВНОГО КОНТРАК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220680" y="1197000"/>
            <a:ext cx="8672400" cy="59544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Способы сокращения издерж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144360" y="115920"/>
            <a:ext cx="84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РЕХОД НА ОДНОКАНАЛЬНОЕ ФИНАНСИРОВАНИ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МЕДИЦИНСКОЕ ОБРАЗ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ая соединительная линия 1"/>
          <p:cNvSpPr/>
          <p:nvPr/>
        </p:nvSpPr>
        <p:spPr>
          <a:xfrm>
            <a:off x="108000" y="981000"/>
            <a:ext cx="892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68360" y="3384720"/>
            <a:ext cx="788040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  <a:ea typeface="Calibri"/>
              </a:rPr>
              <a:t>ЧТО НЕОБХОДИМО ДЕЛАТЬ ЕЩЕ?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  <a:ea typeface="Calibri"/>
              </a:rPr>
              <a:t>КАД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ВОСПОЛНЕНИЕ ДЕФИЦИТА КАДР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РАЗРАБОТКА ПЛАНА ПРОФЕССИОНАЛЬНОЙ ПЕРЕПОДГОТОВКИ  КАДР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ОПТИМИЗАЦИЯ ШТАТНОГО СОСТАВА, СООТНОШЕНИЯ ВРАЧ/МС, ВСПОМОГАТЕЛЬНОГО ПЕРСОНАЛА СТАЦИОНАРОВ И ПОЛИКЛИНИК, ОСОБЕННО С УЧЕТОМ УВЕЛИЧИВАЮЩЕЙСЯ ПРОФИЛАКТИЧЕСКОЙ РОЛИ ПОСЛЕДН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ВНЕДРЕНИЕ СИСТЕМЫ НЕПРЕРЫВНОГО МЕДИЦИНСКОГО ОБРАЗОВАНИЯ, КАК ЕСТЕСТВЕННОГО УСЛОВИЯ УЛУЧШЕНИЯ ЛЕЧЕБНО-ДИАГНОСТИЧЕСКОГО ПРОЦЕСС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1800" indent="-276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  <a:ea typeface="Calibri"/>
              </a:rPr>
              <a:t>ОТКРЫТИЕ В ОКРУГЕ  ЦЕНТРА ПРОФЕССИОНАЛЬНОЙ  ПОДГОТОВКИ, ПЕРЕПОДГОТОВКИ И ПОВЫШЕНИЯ КВАЛИФИКАЦИИ РАБОТНИКОВ СФЕРЫ ЗДРАВООХРАНЕНИЯ (Указ Президента от 07.05.2012 № 597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220680" y="1197000"/>
            <a:ext cx="8672400" cy="595440"/>
          </a:xfrm>
          <a:prstGeom prst="rect">
            <a:avLst/>
          </a:prstGeom>
          <a:solidFill>
            <a:srgbClr val="459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  <a:ea typeface="Calibri"/>
              </a:rPr>
              <a:t>Способы сокращения издерж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144360" y="115920"/>
            <a:ext cx="84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ЕРЕХОД НА ОДНОКАНАЛЬНОЕ ФИНАНСИРОВАНИ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МЕДИЦИНСКОЕ ОБРАЗОВА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16:14:24Z</dcterms:created>
  <dc:creator>fedor</dc:creator>
  <dc:description/>
  <dc:language>en-US</dc:language>
  <cp:lastModifiedBy>SirukDD</cp:lastModifiedBy>
  <dcterms:modified xsi:type="dcterms:W3CDTF">2013-12-02T08:57:34Z</dcterms:modified>
  <cp:revision>354</cp:revision>
  <dc:subject/>
  <dc:title>Слайд 1</dc:title>
</cp:coreProperties>
</file>